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74F-4696-44B4-8BF5-5AE8261B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A50-4A0F-462D-B7C0-B07A41A7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3DB-A59C-4A1B-B7ED-D76F3262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BD8-A87D-4E6C-A8C5-96E83C49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4405-E24F-45D6-A09F-7F25C86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F84-CFF9-461A-8A0D-E67E63A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94E3-7DCD-4790-B13B-BE2341DA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5F95-668D-4BBC-827C-56307603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4410-24A2-47A3-8FD0-B9C9CE13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3E6B-987F-4DE6-A1D1-244B1BF4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CC2F-A67A-4236-A2A9-92E9D94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6D1-5275-4109-A63A-9CC1C4F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1456-7F6A-4B3D-A07A-FB7C0EC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64D5-5881-450D-821D-3B01502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313D-416A-485A-81EC-99965481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68A2-56B1-45D8-B896-080B31F6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610-CC44-4160-805B-3296C443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F1E-0A40-445C-9F26-3E2444FD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8FD-DA1B-408A-9E6E-361DE10C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6D4-173E-4564-9494-3BC125FC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1B0-7ABD-4B64-B6A7-CFC5E19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8E2-0CE3-4563-BE37-35EF8CC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713-D61E-477E-B0E3-FA47C8E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C9D-0559-4EF0-A6A0-5FC384D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A4FD-B0D8-4D6F-AFDD-DF8C84973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B6BF-E0A7-4DAC-BDA5-AEE2B0611D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2943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нду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ь направление индукционного т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483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20840" y="1557360"/>
            <a:ext cx="8280360" cy="47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ЭДС индукции в проводнике длиной 0,25м, перемещающемся в магнитном поле с индукцией 4 Тл со скоростью 5м/с под углом 30 градусов к вектору магнитной инду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скорость изменения магнитного потока в соленоиде из 2000 витков при возбуждении в нем ЭДС индукции 120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основные понятия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задачу: С какой скоростью должен двигаться проводник длиной  2м в магнитном поле с индукцией 3Тл, чтобы в нем возникла ЭДС 6В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ыты Эрстеда и Амп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>
            <a:grayscl/>
            <a:lum contrast="60000"/>
          </a:blip>
          <a:stretch/>
        </p:blipFill>
        <p:spPr>
          <a:xfrm>
            <a:off x="250920" y="1413000"/>
            <a:ext cx="3968640" cy="3728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2">
            <a:grayscl/>
            <a:lum contrast="42000"/>
          </a:blip>
          <a:stretch/>
        </p:blipFill>
        <p:spPr>
          <a:xfrm>
            <a:off x="4643280" y="2637000"/>
            <a:ext cx="412920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5072040" y="2500200"/>
            <a:ext cx="353556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428760" y="1714680"/>
            <a:ext cx="428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31 ГОДУ ОТКРЫЛ ЯВЛЕНИЕ ЭЛЕКТРОМАГНИТНОЙ ИН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магнитной индукцией называют явление возникновения электрического тока в замкнутом контуре под действием переменного магнитного по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онный ток можно получи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сительным движением катушки или магн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ыкая или размыкая первичную цеп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яя силу тока в первичной це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я источник переменного т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никновение ЭДС инду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8280360" cy="48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675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ДС индукции в прямолинейном проводник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т от вектора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ы прово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а между проводником и вектором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 = B υ ℓ sin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ДС индукции в замкнутом контуре равна скорости изменения магнитного потока пронизывающего конт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2921040" y="3068640"/>
                <a:ext cx="307008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о Ленц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укционный ток всегда имеет такое направление, что его магнитное поле стремится помешать изменению магнитного поля вызывающего этот т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1649160" cy="3335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3581280" cy="14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3851280" y="5013360"/>
            <a:ext cx="4076640" cy="160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7:21:56Z</dcterms:created>
  <dc:creator>Колледж</dc:creator>
  <dc:description/>
  <dc:language>en-US</dc:language>
  <cp:lastModifiedBy>Таныгина</cp:lastModifiedBy>
  <dcterms:modified xsi:type="dcterms:W3CDTF">2020-02-06T08:18:24Z</dcterms:modified>
  <cp:revision>12</cp:revision>
  <dc:subject/>
  <dc:title>Электромагнитная индукция</dc:title>
</cp:coreProperties>
</file>